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4F5D7-59F7-449E-85F1-BF2B5CF24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2DCA8-D3F7-4277-80CF-9D0A739FD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5EA72-A1AC-436D-8054-37200D157B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75650-52F2-4F17-B09E-6A7DCF94DF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5AA98-21F9-44AC-8C29-2353EC8C7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35C5E-F97C-42B5-BFF7-D4B6D0695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52C20-AF78-4835-BF93-ABEA1AC36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9DDE5-2B50-472A-81A4-1463599DD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201FE-9C25-4445-A7FE-423A1DF51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ECF4A-9DBE-4A00-8378-A8FEDF7D9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F4BAB-D26D-4C4B-B5B1-08288937D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F105E-2CF9-40EE-8C42-A476E6A206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3FAC8-4297-4A64-B51F-26E0B8D48E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rays</a:t>
            </a:r>
            <a:br>
              <a:rPr sz="4400"/>
            </a:br>
            <a:r>
              <a:rPr b="0" lang="en-US" sz="4400" spc="-1" strike="noStrike">
                <a:solidFill>
                  <a:srgbClr val="000000"/>
                </a:solidFill>
                <a:latin typeface="Arial"/>
              </a:rPr>
              <a:t>Chapter 13</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do the following with a one dimensional arra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lare it, use an inde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345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ch time the loop is repeated the next value is added to the total of the sales array.</a:t>
            </a:r>
            <a:endParaRPr b="0" lang="en-US" sz="4400" spc="-1" strike="noStrike">
              <a:solidFill>
                <a:srgbClr val="000000"/>
              </a:solidFill>
              <a:latin typeface="Arial"/>
            </a:endParaRPr>
          </a:p>
        </p:txBody>
      </p:sp>
      <p:sp>
        <p:nvSpPr>
          <p:cNvPr id="60" name="PlaceHolder 2"/>
          <p:cNvSpPr>
            <a:spLocks noGrp="1"/>
          </p:cNvSpPr>
          <p:nvPr>
            <p:ph/>
          </p:nvPr>
        </p:nvSpPr>
        <p:spPr>
          <a:xfrm>
            <a:off x="457200" y="4038120"/>
            <a:ext cx="8229600" cy="2087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op explicitly shows it is performing a systematic operation on an arr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index ‘dayNumber’ is  clear and strongly related to the problem</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ength of an arra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t siz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ize will be equal to the table.lengt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ize = table.length; // .length is a special feature in Java. It holds the size of the arra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ays are of a fixed size (length) once declared. Values of data within an aray may be changed and re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274320"/>
            <a:ext cx="8305920" cy="239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f new is used to redefine an array name all access to the old data is lost</a:t>
            </a:r>
            <a:endParaRPr b="0" lang="en-US" sz="4400" spc="-1" strike="noStrike">
              <a:solidFill>
                <a:srgbClr val="000000"/>
              </a:solidFill>
              <a:latin typeface="Arial"/>
            </a:endParaRPr>
          </a:p>
        </p:txBody>
      </p:sp>
      <p:sp>
        <p:nvSpPr>
          <p:cNvPr id="64" name="PlaceHolder 2"/>
          <p:cNvSpPr>
            <a:spLocks noGrp="1"/>
          </p:cNvSpPr>
          <p:nvPr>
            <p:ph/>
          </p:nvPr>
        </p:nvSpPr>
        <p:spPr>
          <a:xfrm>
            <a:off x="457200" y="2895480"/>
            <a:ext cx="8229600" cy="3230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iven:    int [ ] arry = { 1,2,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 arry = new arry[ ]; // access to the data 1, 2 and 3 is lo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20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ssing arrays as parameters</a:t>
            </a:r>
            <a:br>
              <a:rPr sz="4000"/>
            </a:br>
            <a:r>
              <a:rPr b="0" lang="en-US" sz="4000" spc="-1" strike="noStrike">
                <a:solidFill>
                  <a:srgbClr val="000000"/>
                </a:solidFill>
                <a:latin typeface="Arial"/>
              </a:rPr>
              <a:t>The name of the array holds the address of the zeroth element</a:t>
            </a:r>
            <a:endParaRPr b="0" lang="en-US" sz="4000" spc="-1" strike="noStrike">
              <a:solidFill>
                <a:srgbClr val="000000"/>
              </a:solidFill>
              <a:latin typeface="Arial"/>
            </a:endParaRPr>
          </a:p>
        </p:txBody>
      </p:sp>
      <p:sp>
        <p:nvSpPr>
          <p:cNvPr id="66"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ivate int sum ( int [ ] arra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 int index = 0; index &lt; = array.length; index++)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tal = total + array [ index];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total;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der of the method declares an array named array in this case, of int type, the array can be of any length. It is general purpose and potentially very useful</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constant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rograms that use several arrays, there are usually many loops, so various lengths might be nee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 [ ] studentMark = new int [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 [ ] courseMark = new int [1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10 is both the length of both studentMark and courseMark…but, what if 20 students are needed? To clarify the problem use ‘fi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final int students = 20;</a:t>
            </a:r>
            <a:br>
              <a:rPr sz="4000"/>
            </a:br>
            <a:r>
              <a:rPr b="0" lang="en-US" sz="4000" spc="-1" strike="noStrike">
                <a:solidFill>
                  <a:srgbClr val="000000"/>
                </a:solidFill>
                <a:latin typeface="Arial"/>
              </a:rPr>
              <a:t>final int courses = 20;</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 studentMark = new int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 courseMark = new int [cour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 int index = 0; index &lt; students; index++) {  // body of loop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italizing an array</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  [ ] table new int [10]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n array (table) is set up and loaded with all zeros – all elements are set to 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all blanks for String arrays 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ll nulls for arrays of obje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xplicitly loaded array: ages loaded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t [ ]ages = { 23, 54, 96, 13, 7, 32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indexes:      0     1   2    3  4    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ing [ ] band = { “John” , “Paul” , “George”, “Ring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loads names into the ‘band’ arr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 [ ] table = new int [2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 int index = 0; index &lt; table.length; index++) { table[index] = 0;} // loads all zeros into array ‘t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ample program page 249-250</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lds an array rain.  A display method used to output the days of the week and the rainfall values for each 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method  Value (places a value into the arr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argest method (finds the day with the most rainfall in the arra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ivate int [ ] rain = { 7, 8, 0, 4, 3, 8, 1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in method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up – given an array height we can extract to 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uble myHeight = height [25]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the 25</a:t>
            </a:r>
            <a:r>
              <a:rPr b="0" lang="en-US" sz="2800" spc="-1" strike="noStrike" baseline="30000">
                <a:solidFill>
                  <a:srgbClr val="000000"/>
                </a:solidFill>
                <a:latin typeface="Arial"/>
              </a:rPr>
              <a:t>th</a:t>
            </a:r>
            <a:r>
              <a:rPr b="0" lang="en-US" sz="2800" spc="-1" strike="noStrike">
                <a:solidFill>
                  <a:srgbClr val="000000"/>
                </a:solidFill>
                <a:latin typeface="Arial"/>
              </a:rPr>
              <a:t> element above the [0]th el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name (an array of names of days of the week)   dayName = name[dayNumb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uld return the String element referenced by dayNumb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revious examples in the text data items (variables) were individual and isolated – except array li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data is grouped into a collection of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les, telephone books, train time tables, bank stat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ed data struct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arching: given two String arrays</a:t>
            </a:r>
            <a:br>
              <a:rPr sz="4000"/>
            </a:br>
            <a:r>
              <a:rPr b="0" lang="en-US" sz="4000" spc="-1" strike="noStrike">
                <a:solidFill>
                  <a:srgbClr val="000000"/>
                </a:solidFill>
                <a:latin typeface="Arial"/>
              </a:rPr>
              <a:t>names and numbers</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elephone directory can be crea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r (index = 0;! ( names[index].equals (wanted) &amp;&amp; ! (names[index].equals (“END”)); index++) {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names[index].equals (wan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nember.setText ( “Number is “ + numbers[index]) ;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lse {numbers.setText (“ Name not fou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 a serial search</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s at beginning index 0 and continues to end of array. Each element is tested in turn. The telephone directory names could be in a file loaded into an array – searched as an arr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rays of object</a:t>
            </a:r>
            <a:br>
              <a:rPr sz="4000"/>
            </a:br>
            <a:r>
              <a:rPr b="0" lang="en-US" sz="4000" spc="-1" strike="noStrike">
                <a:solidFill>
                  <a:srgbClr val="000000"/>
                </a:solidFill>
                <a:latin typeface="Arial"/>
              </a:rPr>
              <a:t>Balloon program pages 253-254</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ethod changes size, increases the diameter of an Oval (the ‘ballo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ay a collection of dat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a name by programm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array items are of the same typ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lared:  int [ ] array = new int [25];</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x starts at zer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st index item 24 ( 0..24) for this exa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l information in a table related in some way</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rray – table with a single row of informa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  54  96  13  7</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n array of numb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Paul  George  Ringo</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n array of String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every array each item is known as an element, refered to by its position – called the inde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component, sometimes known as an element, subscript or index.</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ays in Java start with the zeroth ele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ces not held in the computer – indeces are the way data in the computer are loca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3  54  96  13  7  32    the dat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     1    2    3  4    5   the inde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ray Operation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on  - needs type, leng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t values in   -   initializ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lay  -  on scre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rch  -  locate values (data el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 add, subtract, divide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n Array</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t [ ] ages = new int [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ng [ ] band = new String [4];</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ain indices start at zero, are integer, go up to one less than the length of the arra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put an integer element into the array ag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ges[2] = Integer.parseInt(textField.getTex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and[3] = textField.getText(); // gets element 3 of the band arr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put from an array</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extField.setText (“ The first age is “ + Integer.toString (ages [0] ) ); textField.setText (“ The 4</a:t>
            </a:r>
            <a:r>
              <a:rPr b="0" lang="en-US" sz="3200" spc="-1" strike="noStrike" baseline="30000">
                <a:solidFill>
                  <a:srgbClr val="000000"/>
                </a:solidFill>
                <a:latin typeface="Arial"/>
              </a:rPr>
              <a:t>th</a:t>
            </a:r>
            <a:r>
              <a:rPr b="0" lang="en-US" sz="3200" spc="-1" strike="noStrike">
                <a:solidFill>
                  <a:srgbClr val="000000"/>
                </a:solidFill>
                <a:latin typeface="Arial"/>
              </a:rPr>
              <a:t> band member is “ + band [3]; // remember start from ze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ing values in an arra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ges [3] = 99; // no longer 3</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and [2] = “Mike”; // no longer Georg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274680"/>
            <a:ext cx="8305920" cy="323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variables instead of numbers</a:t>
            </a:r>
            <a:br>
              <a:rPr sz="4000"/>
            </a:br>
            <a:r>
              <a:rPr b="0" lang="en-US" sz="4000" spc="-1" strike="noStrike">
                <a:solidFill>
                  <a:srgbClr val="000000"/>
                </a:solidFill>
                <a:latin typeface="Arial"/>
              </a:rPr>
              <a:t>(numeric literals) in square [ ] brackets is what gives power to Java array handling</a:t>
            </a:r>
            <a:endParaRPr b="0" lang="en-US" sz="4000" spc="-1" strike="noStrike">
              <a:solidFill>
                <a:srgbClr val="000000"/>
              </a:solidFill>
              <a:latin typeface="Arial"/>
            </a:endParaRPr>
          </a:p>
        </p:txBody>
      </p:sp>
      <p:sp>
        <p:nvSpPr>
          <p:cNvPr id="56" name="PlaceHolder 2"/>
          <p:cNvSpPr>
            <a:spLocks noGrp="1"/>
          </p:cNvSpPr>
          <p:nvPr>
            <p:ph/>
          </p:nvPr>
        </p:nvSpPr>
        <p:spPr>
          <a:xfrm>
            <a:off x="457200" y="3657240"/>
            <a:ext cx="8229600" cy="2468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computers sold in a store in one wee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t [ ] sales = new int [7];</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day will be the zeroth el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ale[0] = 13;  // 13 sold on Mon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 : 0  1  2  3   4   5  6  // index numb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13 8 22 17 24 15 23// data in arr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 sum;  sum = sale[0] + sale[1] + sale[2]…sale[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p using variable for index great too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t sum = 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or ( int dayNumber = 0; dayNumber &lt;= 6; dayNumber++) { sum = sum +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 dayNumber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3T23:13:47Z</dcterms:created>
  <dc:creator> </dc:creator>
  <dc:description/>
  <dc:language>en-US</dc:language>
  <cp:lastModifiedBy> </cp:lastModifiedBy>
  <dcterms:modified xsi:type="dcterms:W3CDTF">2005-05-04T01:41:28Z</dcterms:modified>
  <cp:revision>3</cp:revision>
  <dc:subject/>
  <dc:title>Arrays Chapter 13</dc:title>
</cp:coreProperties>
</file>